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2DB9-A65E-4C1E-814A-FCA351D6D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DB717-CD7C-44C2-9876-53A641A2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6DC37-ABBE-40C5-A66F-91861B46B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2C3D8-C073-434B-97DC-12F4250C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67670-8F5F-4619-A5EE-3203FC201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C140F-5EA3-42B8-903B-5EA851F54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F873E-B5F6-46AC-B724-8BE6A0F6B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441F6-515E-4A51-979C-58F4676C6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D0881-0D36-4C98-A3E8-41FFF4540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0944F-3AB0-429A-9822-45DE5F584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7839C-7722-4CF6-8A24-BBB61B038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4D9B-BAF5-4E2F-9834-37A649EF1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62DB6-06A4-4520-B58F-46853225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620B8-5BA2-424B-878A-3172E2067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07DEE-4E9E-44D7-BCBE-A67A26EFC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2CE1B-A1CF-40EC-8F09-029C00695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B04D5-1651-498D-BE43-9494847A2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1DCFB-C76C-423C-91F9-27F060FC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0781D-ACA0-46A0-892D-529FE977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E361-5C29-4744-9DF0-6F9D509EB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A523-0627-42EB-8FF2-7A8915A19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0B31-D62C-44CF-B2F6-07133CEF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6A9A-054C-4D6B-882E-2E2A6F36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CB82D-0451-4057-B97D-D9A4D48A6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5070-E28B-42C0-B892-B495634B439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161B-99D7-4BDA-8A65-BE9D57805E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2 </a:t>
            </a:r>
            <a:r>
              <a:rPr b="1" lang="en-US" sz="2800" spc="-1" strike="noStrike">
                <a:solidFill>
                  <a:srgbClr val="003366"/>
                </a:solidFill>
                <a:latin typeface="Arial"/>
              </a:rPr>
              <a:t>— </a:t>
            </a:r>
            <a:r>
              <a:rPr b="1" lang="en-US" sz="3200" spc="-1" strike="noStrike">
                <a:solidFill>
                  <a:srgbClr val="003366"/>
                </a:solidFill>
                <a:latin typeface="Arial"/>
              </a:rPr>
              <a:t>Computer Hardware</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82232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gram of a</a:t>
            </a:r>
            <a:br>
              <a:rPr sz="3600"/>
            </a:br>
            <a:r>
              <a:rPr b="1" lang="en-US" sz="3600" spc="-1" strike="noStrike">
                <a:solidFill>
                  <a:srgbClr val="006666"/>
                </a:solidFill>
                <a:latin typeface="Arial"/>
              </a:rPr>
              <a:t>Simplified Motherboard</a:t>
            </a:r>
            <a:endParaRPr b="1" lang="en-US" sz="3600" spc="-1" strike="noStrike">
              <a:solidFill>
                <a:srgbClr val="006666"/>
              </a:solidFill>
              <a:latin typeface="Arial"/>
            </a:endParaRPr>
          </a:p>
        </p:txBody>
      </p:sp>
      <p:pic>
        <p:nvPicPr>
          <p:cNvPr id="118" name="" descr=""/>
          <p:cNvPicPr/>
          <p:nvPr/>
        </p:nvPicPr>
        <p:blipFill>
          <a:blip r:embed="rId1"/>
          <a:stretch/>
        </p:blipFill>
        <p:spPr>
          <a:xfrm>
            <a:off x="2514600" y="2438280"/>
            <a:ext cx="4038480" cy="381636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8B9D01D-E8F6-44DA-8758-AA219E78F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entral Processing Unit</a:t>
            </a:r>
            <a:endParaRPr b="1" lang="en-US" sz="3600" spc="-1" strike="noStrike">
              <a:solidFill>
                <a:srgbClr val="006666"/>
              </a:solidFill>
              <a:latin typeface="Arial"/>
            </a:endParaRPr>
          </a:p>
        </p:txBody>
      </p:sp>
      <p:sp>
        <p:nvSpPr>
          <p:cNvPr id="120" name="PlaceHolder 2"/>
          <p:cNvSpPr>
            <a:spLocks noGrp="1"/>
          </p:cNvSpPr>
          <p:nvPr>
            <p:ph/>
          </p:nvPr>
        </p:nvSpPr>
        <p:spPr>
          <a:xfrm>
            <a:off x="990360" y="2438280"/>
            <a:ext cx="769284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iny silicon chip that acts as the brains of a computer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hip contains switches and pathways the CPU turns on and off according to instructions from computer progra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ystem clock is an electronic pulse that controls the speed of the CPU. The rate of the pulse is measured in megahertz (MHz).</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5A07F4B-E749-4EC3-8C64-EFB886D97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Central Processing Unit (cont.)</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has two primary sections:</a:t>
            </a:r>
            <a:endParaRPr b="0" lang="en-US" sz="28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rithmetic/Logic Unit (ALU)</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section performs arithmetic and logical operations.</a:t>
            </a:r>
            <a:endParaRPr b="0" lang="en-US" sz="24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ontrol Unit</a:t>
            </a:r>
            <a:endParaRPr b="0" lang="en-US" sz="26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ordinates all activity within CPU. It uses programming instructions to control actions the CPU performs and wh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48A9CDF-13F9-4ED2-A0B4-C6C7B1584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ng with the CPU</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rol unit reads and interprets program instructions, then changes it to machine language the CPU understands.</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is stored in </a:t>
            </a:r>
            <a:r>
              <a:rPr b="1" lang="en-US" sz="2800" spc="-1" strike="noStrike">
                <a:solidFill>
                  <a:srgbClr val="003366"/>
                </a:solidFill>
                <a:latin typeface="Arial"/>
              </a:rPr>
              <a:t>binary format</a:t>
            </a:r>
            <a:r>
              <a:rPr b="0" lang="en-US" sz="2800" spc="-1" strike="noStrike">
                <a:solidFill>
                  <a:srgbClr val="003366"/>
                </a:solidFill>
                <a:latin typeface="Arial"/>
              </a:rPr>
              <a:t> as a series of 1s and 0s. Every 1 or 0 is a </a:t>
            </a:r>
            <a:r>
              <a:rPr b="1" i="1" lang="en-US" sz="2800" spc="-1" strike="noStrike">
                <a:solidFill>
                  <a:srgbClr val="003366"/>
                </a:solidFill>
                <a:latin typeface="Arial"/>
              </a:rPr>
              <a:t>bit</a:t>
            </a:r>
            <a:r>
              <a:rPr b="0" lang="en-US" sz="2800" spc="-1" strike="noStrike">
                <a:solidFill>
                  <a:srgbClr val="003366"/>
                </a:solidFill>
                <a:latin typeface="Arial"/>
              </a:rPr>
              <a:t> of informatio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7E8D508-DD59-4A93-AF1C-BA8E0EE242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ng with the CPU (cont.)</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mputers use standardized coding systems (such as ASCII) to decide what character or number is represented by what series of binary digits.</a:t>
            </a:r>
            <a:endParaRPr b="0" lang="en-US" sz="2600" spc="-1" strike="noStrike">
              <a:solidFill>
                <a:srgbClr val="003366"/>
              </a:solidFill>
              <a:latin typeface="Arial"/>
            </a:endParaRPr>
          </a:p>
          <a:p>
            <a:pPr marL="343080" indent="-343080">
              <a:spcBef>
                <a:spcPts val="649"/>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Data is stored in a series of 8-bit combinations called a </a:t>
            </a:r>
            <a:r>
              <a:rPr b="1" i="1" lang="en-US" sz="2600" spc="-1" strike="noStrike">
                <a:solidFill>
                  <a:srgbClr val="003366"/>
                </a:solidFill>
                <a:latin typeface="Arial"/>
              </a:rPr>
              <a:t>byte</a:t>
            </a:r>
            <a:r>
              <a:rPr b="0" lang="en-US" sz="2600" spc="-1" strike="noStrike">
                <a:solidFill>
                  <a:srgbClr val="003366"/>
                </a:solidFill>
                <a:latin typeface="Arial"/>
              </a:rPr>
              <a:t>. Every character, such as a letter, number, or punctuation mark, is a byte created from a unique combination of ones and zeros.</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B10DFF3-BF56-4774-857F-193549418A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Controllers</a:t>
            </a:r>
            <a:endParaRPr b="1" lang="en-US" sz="36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troller is a device that controls transfer of data from computer to peripheral device and vice vers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rs for standard peripheral devices are contained on a single chip on the motherboard.</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619FC49-A41B-40E9-956F-E15D66CB2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pansion Ports and Slots</a:t>
            </a: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ts are specialized plugs that connect peripheral devices to the computer’s mother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ansion slots are openings on the motherboard where a circuit board or memory chip can be added.</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1B51441-55C2-47E9-B1F0-9147BC67F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er Memory</a:t>
            </a: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being processed by a CPU is stored in system memory. </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Memory consists of address locations within the machine that the computer accesses.</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stored in memory is not permanent. If power fails, everything is lost.</a:t>
            </a:r>
            <a:endParaRPr b="0" lang="en-US" sz="2500" spc="-1" strike="noStrike">
              <a:solidFill>
                <a:srgbClr val="003366"/>
              </a:solidFill>
              <a:latin typeface="Arial"/>
            </a:endParaRPr>
          </a:p>
          <a:p>
            <a:pPr marL="339480" indent="-3394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 must be stored on a disk or some other device when not being processed. Then it isn’t lost each time the computer shuts down.</a:t>
            </a:r>
            <a:endParaRPr b="0" lang="en-US" sz="25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D134F95-D099-4784-A9F0-B20249DA8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Computer Memory</a:t>
            </a:r>
            <a:endParaRPr b="1" lang="en-US" sz="3600" spc="-1" strike="noStrike">
              <a:solidFill>
                <a:srgbClr val="006666"/>
              </a:solidFill>
              <a:latin typeface="Arial"/>
            </a:endParaRPr>
          </a:p>
        </p:txBody>
      </p:sp>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types of memory found on a motherboard:</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AM:</a:t>
            </a:r>
            <a:r>
              <a:rPr b="0" lang="en-US" sz="2800" spc="-1" strike="noStrike">
                <a:solidFill>
                  <a:srgbClr val="003366"/>
                </a:solidFill>
                <a:latin typeface="Arial"/>
              </a:rPr>
              <a:t> Random Access Memory</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OM:</a:t>
            </a:r>
            <a:r>
              <a:rPr b="0" lang="en-US" sz="2800" spc="-1" strike="noStrike">
                <a:solidFill>
                  <a:srgbClr val="003366"/>
                </a:solidFill>
                <a:latin typeface="Arial"/>
              </a:rPr>
              <a:t> Read-Only Memory</a:t>
            </a:r>
            <a:endParaRPr b="0" lang="en-US" sz="2800" spc="-1" strike="noStrike">
              <a:solidFill>
                <a:srgbClr val="003366"/>
              </a:solidFill>
              <a:latin typeface="Arial"/>
            </a:endParaRPr>
          </a:p>
          <a:p>
            <a:pPr marL="343080" indent="0">
              <a:spcBef>
                <a:spcPts val="700"/>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 descr=""/>
          <p:cNvPicPr/>
          <p:nvPr/>
        </p:nvPicPr>
        <p:blipFill>
          <a:blip r:embed="rId1"/>
          <a:stretch/>
        </p:blipFill>
        <p:spPr>
          <a:xfrm>
            <a:off x="4800600" y="2438280"/>
            <a:ext cx="2801880" cy="3581640"/>
          </a:xfrm>
          <a:prstGeom prst="rect">
            <a:avLst/>
          </a:prstGeom>
          <a:ln w="0">
            <a:noFill/>
          </a:ln>
        </p:spPr>
      </p:pic>
      <p:sp>
        <p:nvSpPr>
          <p:cNvPr id="136" name=""/>
          <p:cNvSpPr/>
          <p:nvPr/>
        </p:nvSpPr>
        <p:spPr>
          <a:xfrm flipH="1" flipV="1">
            <a:off x="6553080" y="4267080"/>
            <a:ext cx="457200" cy="6098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
          <p:cNvSpPr/>
          <p:nvPr/>
        </p:nvSpPr>
        <p:spPr>
          <a:xfrm>
            <a:off x="6705720" y="4800600"/>
            <a:ext cx="70164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hip</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DC68A9-7613-43C0-8BDB-35381CD385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Access Memory (RAM)</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is short-term memory where data is processed while a program is run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stored here can be accessed and modified as need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type of memory loses any data it holds if the computer is shut dow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M is also called </a:t>
            </a:r>
            <a:r>
              <a:rPr b="0" i="1" lang="en-US" sz="2800" spc="-1" strike="noStrike">
                <a:solidFill>
                  <a:srgbClr val="003366"/>
                </a:solidFill>
                <a:latin typeface="Arial"/>
              </a:rPr>
              <a:t>main memory.</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E8983B6-9249-4CA1-8D7E-3B6F098D0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computer system compon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the CPU wor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iate between RAM and ROM.</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how data is represented.</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0FC4B6D-D73B-4AC1-BAAF-7C9A0BED32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struction Cycle and the</a:t>
            </a:r>
            <a:br>
              <a:rPr sz="3600"/>
            </a:br>
            <a:r>
              <a:rPr b="1" lang="en-US" sz="3600" spc="-1" strike="noStrike">
                <a:solidFill>
                  <a:srgbClr val="006666"/>
                </a:solidFill>
                <a:latin typeface="Arial"/>
              </a:rPr>
              <a:t>Execution Cycle in RAM</a:t>
            </a:r>
            <a:endParaRPr b="1" lang="en-US" sz="3600" spc="-1" strike="noStrike">
              <a:solidFill>
                <a:srgbClr val="006666"/>
              </a:solidFill>
              <a:latin typeface="Arial"/>
            </a:endParaRPr>
          </a:p>
        </p:txBody>
      </p:sp>
      <p:sp>
        <p:nvSpPr>
          <p:cNvPr id="141" name=""/>
          <p:cNvSpPr/>
          <p:nvPr/>
        </p:nvSpPr>
        <p:spPr>
          <a:xfrm>
            <a:off x="4419720" y="2819520"/>
            <a:ext cx="12189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
          <p:cNvSpPr/>
          <p:nvPr/>
        </p:nvSpPr>
        <p:spPr>
          <a:xfrm>
            <a:off x="1143000" y="2590920"/>
            <a:ext cx="3048120" cy="367488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9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eps in the basic cycle involved in processing a program statement in RAM are shown at left in the figure. This process is called the </a:t>
            </a:r>
            <a:r>
              <a:rPr b="1" lang="en-US" sz="1800" spc="-1" strike="noStrike">
                <a:solidFill>
                  <a:srgbClr val="ffffff"/>
                </a:solidFill>
                <a:latin typeface="Arial"/>
              </a:rPr>
              <a:t>instruction cycle</a:t>
            </a:r>
            <a:r>
              <a:rPr b="0" lang="en-US" sz="1800" spc="-1" strike="noStrike">
                <a:solidFill>
                  <a:srgbClr val="ffffff"/>
                </a:solidFill>
                <a:latin typeface="Arial"/>
              </a:rPr>
              <a:t> since it must be performed for every instruction to be executed.</a:t>
            </a:r>
            <a:endParaRPr b="0" lang="en-US" sz="1800" spc="-1" strike="noStrike">
              <a:solidFill>
                <a:srgbClr val="003366"/>
              </a:solidFill>
              <a:latin typeface="Arial"/>
            </a:endParaRPr>
          </a:p>
          <a:p>
            <a:pPr>
              <a:lnSpc>
                <a:spcPct val="90000"/>
              </a:lnSpc>
              <a:spcBef>
                <a:spcPts val="45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mount of time required to complete the instruction cycle is referred to as the </a:t>
            </a:r>
            <a:r>
              <a:rPr b="1" lang="en-US" sz="1800" spc="-1" strike="noStrike">
                <a:solidFill>
                  <a:srgbClr val="ffffff"/>
                </a:solidFill>
                <a:latin typeface="Arial"/>
              </a:rPr>
              <a:t>execution cycle, </a:t>
            </a:r>
            <a:r>
              <a:rPr b="0" lang="en-US" sz="1800" spc="-1" strike="noStrike">
                <a:solidFill>
                  <a:srgbClr val="ffffff"/>
                </a:solidFill>
                <a:latin typeface="Arial"/>
              </a:rPr>
              <a:t>shown at right in the figure</a:t>
            </a:r>
            <a:r>
              <a:rPr b="1" lang="en-US" sz="1800" spc="-1" strike="noStrike">
                <a:solidFill>
                  <a:srgbClr val="ffffff"/>
                </a:solidFill>
                <a:latin typeface="Arial"/>
              </a:rPr>
              <a:t>.</a:t>
            </a:r>
            <a:endParaRPr b="0" lang="en-US" sz="1800" spc="-1" strike="noStrike">
              <a:solidFill>
                <a:srgbClr val="003366"/>
              </a:solidFill>
              <a:latin typeface="Arial"/>
            </a:endParaRPr>
          </a:p>
        </p:txBody>
      </p:sp>
      <p:pic>
        <p:nvPicPr>
          <p:cNvPr id="143" name="" descr=""/>
          <p:cNvPicPr/>
          <p:nvPr/>
        </p:nvPicPr>
        <p:blipFill>
          <a:blip r:embed="rId1"/>
          <a:stretch/>
        </p:blipFill>
        <p:spPr>
          <a:xfrm>
            <a:off x="4343400" y="3124080"/>
            <a:ext cx="4103640" cy="262584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BBD41ADC-8B36-4CBD-90D0-ED58DEE20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achine Cycle</a:t>
            </a:r>
            <a:endParaRPr b="1" lang="en-US" sz="3600" spc="-1" strike="noStrike">
              <a:solidFill>
                <a:srgbClr val="006666"/>
              </a:solidFill>
              <a:latin typeface="Arial"/>
            </a:endParaRPr>
          </a:p>
        </p:txBody>
      </p:sp>
      <p:sp>
        <p:nvSpPr>
          <p:cNvPr id="145" name=""/>
          <p:cNvSpPr/>
          <p:nvPr/>
        </p:nvSpPr>
        <p:spPr>
          <a:xfrm>
            <a:off x="1447920" y="2362320"/>
            <a:ext cx="18288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
          <p:cNvSpPr/>
          <p:nvPr/>
        </p:nvSpPr>
        <p:spPr>
          <a:xfrm>
            <a:off x="5486400" y="2895480"/>
            <a:ext cx="2666880" cy="3111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struction cycle and one or more execu-tion cycles create a </a:t>
            </a:r>
            <a:r>
              <a:rPr b="1" lang="en-US" sz="1800" spc="-1" strike="noStrike">
                <a:solidFill>
                  <a:srgbClr val="ffffff"/>
                </a:solidFill>
                <a:latin typeface="Arial"/>
              </a:rPr>
              <a:t>machine cycle.</a:t>
            </a:r>
            <a:r>
              <a:rPr b="0" lang="en-US" sz="1800" spc="-1" strike="noStrike">
                <a:solidFill>
                  <a:srgbClr val="ffffff"/>
                </a:solidFill>
                <a:latin typeface="Arial"/>
              </a:rPr>
              <a:t> Machine cycles are measured in micro-seconds. The faster your computer can process machine cycles, the faster it can process data.</a:t>
            </a:r>
            <a:endParaRPr b="0" lang="en-US" sz="1800" spc="-1" strike="noStrike">
              <a:solidFill>
                <a:srgbClr val="003366"/>
              </a:solidFill>
              <a:latin typeface="Arial"/>
            </a:endParaRPr>
          </a:p>
        </p:txBody>
      </p:sp>
      <p:pic>
        <p:nvPicPr>
          <p:cNvPr id="147" name="" descr=""/>
          <p:cNvPicPr/>
          <p:nvPr/>
        </p:nvPicPr>
        <p:blipFill>
          <a:blip r:embed="rId1"/>
          <a:stretch/>
        </p:blipFill>
        <p:spPr>
          <a:xfrm>
            <a:off x="1143000" y="2514600"/>
            <a:ext cx="3914640" cy="3724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E2DAC84F-2D40-4122-B90E-858D10313A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d-Only Memory (ROM)</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M is memory placed on the motherboard by the manufacturer and contains instructions, such as BIOS ROM, that tell the computer how to start it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data cannot be accessed or modified by application progra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ents of this memory are not lost when the computer is shut dow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E6C7B34-7639-4394-93B3-ED76AB7818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put and Output Devices</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devices enable a user to input data and commands to the computer to be processed.</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devices enable the computer to give or show you the results of its processing.</a:t>
            </a:r>
            <a:endParaRPr b="0" lang="en-US" sz="2800" spc="-1" strike="noStrike">
              <a:solidFill>
                <a:srgbClr val="003366"/>
              </a:solidFill>
              <a:latin typeface="Arial"/>
            </a:endParaRPr>
          </a:p>
          <a:p>
            <a:pPr marL="343080" indent="-343080">
              <a:spcBef>
                <a:spcPts val="700"/>
              </a:spcBef>
              <a:spcAft>
                <a:spcPts val="87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odem can perform both input and output operation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B84A87E-494D-4D15-B72D-4F4E51288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put Devices</a:t>
            </a:r>
            <a:endParaRPr b="1" lang="en-US" sz="3600" spc="-1" strike="noStrike">
              <a:solidFill>
                <a:srgbClr val="006666"/>
              </a:solidFill>
              <a:latin typeface="Arial"/>
            </a:endParaRPr>
          </a:p>
        </p:txBody>
      </p:sp>
      <p:sp>
        <p:nvSpPr>
          <p:cNvPr id="153"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recognition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ystic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ckballs</a:t>
            </a:r>
            <a:endParaRPr b="0" lang="en-US" sz="2800" spc="-1" strike="noStrike">
              <a:solidFill>
                <a:srgbClr val="003366"/>
              </a:solidFill>
              <a:latin typeface="Arial"/>
            </a:endParaRPr>
          </a:p>
        </p:txBody>
      </p:sp>
      <p:sp>
        <p:nvSpPr>
          <p:cNvPr id="154"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aphics tabl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ch display scr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gital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sors and remote recording devi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480DEA62-CC64-4511-A1EE-3B4085554B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board</a:t>
            </a:r>
            <a:endParaRPr b="1" lang="en-US" sz="3600" spc="-1" strike="noStrike">
              <a:solidFill>
                <a:srgbClr val="006666"/>
              </a:solidFill>
              <a:latin typeface="Arial"/>
            </a:endParaRPr>
          </a:p>
        </p:txBody>
      </p:sp>
      <p:sp>
        <p:nvSpPr>
          <p:cNvPr id="156" name=""/>
          <p:cNvSpPr/>
          <p:nvPr/>
        </p:nvSpPr>
        <p:spPr>
          <a:xfrm>
            <a:off x="2362320" y="2590920"/>
            <a:ext cx="4190760" cy="53244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ur sections of a typical computer keyboard are indicated in this figure. </a:t>
            </a:r>
            <a:endParaRPr b="0" lang="en-US" sz="1800" spc="-1" strike="noStrike">
              <a:solidFill>
                <a:srgbClr val="003366"/>
              </a:solidFill>
              <a:latin typeface="Arial"/>
            </a:endParaRPr>
          </a:p>
        </p:txBody>
      </p:sp>
      <p:pic>
        <p:nvPicPr>
          <p:cNvPr id="157" name="" descr=""/>
          <p:cNvPicPr/>
          <p:nvPr/>
        </p:nvPicPr>
        <p:blipFill>
          <a:blip r:embed="rId1"/>
          <a:stretch/>
        </p:blipFill>
        <p:spPr>
          <a:xfrm>
            <a:off x="1523880" y="3276720"/>
            <a:ext cx="6016680" cy="290016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A29B2CA1-ACE7-49C3-9FF1-B6062AD8A9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use</a:t>
            </a: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use is a pointing device that controls the pointer on the screen.</a:t>
            </a:r>
            <a:endParaRPr b="0" lang="en-US" sz="2400" spc="-1" strike="noStrike">
              <a:solidFill>
                <a:srgbClr val="003366"/>
              </a:solidFill>
              <a:latin typeface="Arial"/>
            </a:endParaRPr>
          </a:p>
          <a:p>
            <a:pPr marL="325800" indent="-3258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llowing techniques allow you to use the mouse to input information: </a:t>
            </a:r>
            <a:endParaRPr b="0" lang="en-US" sz="24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int:</a:t>
            </a:r>
            <a:r>
              <a:rPr b="0" lang="en-US" sz="2000" spc="-1" strike="noStrike">
                <a:solidFill>
                  <a:srgbClr val="003366"/>
                </a:solidFill>
                <a:latin typeface="Arial"/>
              </a:rPr>
              <a:t> Place the screen pointer at a specific locati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a:t>
            </a:r>
            <a:r>
              <a:rPr b="0" lang="en-US" sz="2000" spc="-1" strike="noStrike">
                <a:solidFill>
                  <a:srgbClr val="003366"/>
                </a:solidFill>
                <a:latin typeface="Arial"/>
              </a:rPr>
              <a:t> Press and release the mouse butt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rag:</a:t>
            </a:r>
            <a:r>
              <a:rPr b="0" lang="en-US" sz="2000" spc="-1" strike="noStrike">
                <a:solidFill>
                  <a:srgbClr val="003366"/>
                </a:solidFill>
                <a:latin typeface="Arial"/>
              </a:rPr>
              <a:t> Hold down the mouse button and move the mouse.</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ouble-click:</a:t>
            </a:r>
            <a:r>
              <a:rPr b="0" lang="en-US" sz="2000" spc="-1" strike="noStrike">
                <a:solidFill>
                  <a:srgbClr val="003366"/>
                </a:solidFill>
                <a:latin typeface="Arial"/>
              </a:rPr>
              <a:t> Press and release the mouse button twice in quick succession.</a:t>
            </a:r>
            <a:endParaRPr b="0" lang="en-US" sz="2000" spc="-1" strike="noStrike">
              <a:solidFill>
                <a:srgbClr val="003366"/>
              </a:solidFill>
              <a:latin typeface="Arial"/>
            </a:endParaRPr>
          </a:p>
          <a:p>
            <a:pPr lvl="1" marL="705600" indent="-271440">
              <a:spcBef>
                <a:spcPts val="499"/>
              </a:spcBef>
              <a:spcAft>
                <a:spcPts val="24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ight-click: </a:t>
            </a:r>
            <a:r>
              <a:rPr b="0" lang="en-US" sz="2000" spc="-1" strike="noStrike">
                <a:solidFill>
                  <a:srgbClr val="003366"/>
                </a:solidFill>
                <a:latin typeface="Arial"/>
              </a:rPr>
              <a:t>Press the right mouse button.</a:t>
            </a:r>
            <a:endParaRPr b="0" lang="en-US" sz="2000" spc="-1" strike="noStrike">
              <a:solidFill>
                <a:srgbClr val="003366"/>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215EA5C9-910A-4210-B936-52741F2F5C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ice Recognition Device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input devices are used to speak directly to a computer to issue commands and enter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recognition technology enables people with disabilities to control computerized devices with spoken command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3AF2F71-1C77-43D3-98DC-00039014BA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nners</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s change images into digital data that a computer can understand.</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ypes of scanners include</a:t>
            </a:r>
            <a:endParaRPr b="0" lang="en-US" sz="28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age scanners:</a:t>
            </a:r>
            <a:r>
              <a:rPr b="0" lang="en-US" sz="2400" spc="-1" strike="noStrike">
                <a:solidFill>
                  <a:srgbClr val="003366"/>
                </a:solidFill>
                <a:latin typeface="Arial"/>
              </a:rPr>
              <a:t> Used for photos and other graphic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Bar code scanners:</a:t>
            </a:r>
            <a:r>
              <a:rPr b="0" lang="en-US" sz="2400" spc="-1" strike="noStrike">
                <a:solidFill>
                  <a:srgbClr val="003366"/>
                </a:solidFill>
                <a:latin typeface="Arial"/>
              </a:rPr>
              <a:t> Used to read product codes in stores and warehouses</a:t>
            </a:r>
            <a:endParaRPr b="0" lang="en-US" sz="2400" spc="-1" strike="noStrike">
              <a:solidFill>
                <a:srgbClr val="003366"/>
              </a:solidFill>
              <a:latin typeface="Arial"/>
            </a:endParaRPr>
          </a:p>
          <a:p>
            <a:pPr lvl="1" marL="743040" indent="-285840">
              <a:lnSpc>
                <a:spcPct val="95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gnetic scanners:</a:t>
            </a:r>
            <a:r>
              <a:rPr b="0" lang="en-US" sz="2400" spc="-1" strike="noStrike">
                <a:solidFill>
                  <a:srgbClr val="003366"/>
                </a:solidFill>
                <a:latin typeface="Arial"/>
              </a:rPr>
              <a:t> Used to read information encoded on credit car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7642055-90AD-430E-9A2D-4CEAD62CD8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Input Device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Joysticks are often used to control input for video games. They frequently have buttons that can be pushed or clicked to control input/outpu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rackballs work like a mouse turned upside down. Moving the ball controls the pointer on the screen.</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Other specialized input devices, such as graphics tablets, touchscreens, digital cameras, and remote controls, provide data to the computer in a digitized form that the CPU can interpre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B64AB4D-D60D-4BEA-BB14-C417CAA310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the most common in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the most common out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and describe storage dev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92D158-8239-427A-B41B-1963F4D8A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Monitors</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are used to display video output to a u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may be monochromatic or color. Monochromatic monitors display output in a single-color displa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4F46511-8F36-4604-8C07-B6ECB3D5D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Monitors (cont.)</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ctors that influence the quality of a monitor ar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Screen size:</a:t>
            </a:r>
            <a:r>
              <a:rPr b="0" lang="en-US" sz="2600" spc="-1" strike="noStrike">
                <a:solidFill>
                  <a:srgbClr val="003366"/>
                </a:solidFill>
                <a:latin typeface="Arial"/>
              </a:rPr>
              <a:t> The diagonal measurement in inches of the display area</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esolution:</a:t>
            </a:r>
            <a:r>
              <a:rPr b="0" lang="en-US" sz="2600" spc="-1" strike="noStrike">
                <a:solidFill>
                  <a:srgbClr val="003366"/>
                </a:solidFill>
                <a:latin typeface="Arial"/>
              </a:rPr>
              <a:t> The number of pixels that can be displayed in the display area</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Dot pitch:</a:t>
            </a:r>
            <a:r>
              <a:rPr b="0" lang="en-US" sz="2600" spc="-1" strike="noStrike">
                <a:solidFill>
                  <a:srgbClr val="003366"/>
                </a:solidFill>
                <a:latin typeface="Arial"/>
              </a:rPr>
              <a:t> The distance between each pixel in the display area</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D5766A5-D16B-4F51-A7A2-B16AA13AA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put Devices </a:t>
            </a:r>
            <a:r>
              <a:rPr b="1" lang="en-US" sz="3600" spc="-1" strike="noStrike">
                <a:solidFill>
                  <a:srgbClr val="006666"/>
                </a:solidFill>
                <a:latin typeface="Arial"/>
                <a:ea typeface="Arial"/>
              </a:rPr>
              <a:t>— Printers</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inters are used to create a hard copy of a document or image. Printers vary by speed, quality, and pric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most popular types of printers are</a:t>
            </a:r>
            <a:endParaRPr b="0" lang="en-US" sz="23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Laser:</a:t>
            </a:r>
            <a:r>
              <a:rPr b="0" lang="en-US" sz="2200" spc="-1" strike="noStrike">
                <a:solidFill>
                  <a:srgbClr val="003366"/>
                </a:solidFill>
                <a:latin typeface="Arial"/>
              </a:rPr>
              <a:t> Produce images using the same techniques as copier machines</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Ink-Jet:</a:t>
            </a:r>
            <a:r>
              <a:rPr b="0" lang="en-US" sz="2200" spc="-1" strike="noStrike">
                <a:solidFill>
                  <a:srgbClr val="003366"/>
                </a:solidFill>
                <a:latin typeface="Arial"/>
              </a:rPr>
              <a:t> Use fine nozzles to spray ink onto the page as the paper passes through</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Dot matrix:</a:t>
            </a:r>
            <a:r>
              <a:rPr b="0" lang="en-US" sz="2200" spc="-1" strike="noStrike">
                <a:solidFill>
                  <a:srgbClr val="003366"/>
                </a:solidFill>
                <a:latin typeface="Arial"/>
              </a:rPr>
              <a:t> Work similarly to a typewriter in that ink is transferred to the paper by some part of the printer striking a ribbon to transfer an image.</a:t>
            </a:r>
            <a:endParaRPr b="0" lang="en-US" sz="2200" spc="-1" strike="noStrike">
              <a:solidFill>
                <a:srgbClr val="003366"/>
              </a:solidFill>
              <a:latin typeface="Arial"/>
            </a:endParaRPr>
          </a:p>
          <a:p>
            <a:pPr marL="34308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3EB5085-7F31-4E05-80A9-4F456530178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utput Devices</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otters are printers that use pens to draw lines to create maps, charts, and blueprints.</a:t>
            </a:r>
            <a:endParaRPr b="0" lang="en-US" sz="2800" spc="-1" strike="noStrike">
              <a:solidFill>
                <a:srgbClr val="003366"/>
              </a:solidFill>
              <a:latin typeface="Arial"/>
            </a:endParaRPr>
          </a:p>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jectors are used to project a large image of what is on the computer screen.</a:t>
            </a:r>
            <a:endParaRPr b="0" lang="en-US" sz="2800" spc="-1" strike="noStrike">
              <a:solidFill>
                <a:srgbClr val="003366"/>
              </a:solidFill>
              <a:latin typeface="Arial"/>
            </a:endParaRPr>
          </a:p>
          <a:p>
            <a:pPr marL="343080" indent="-343080">
              <a:spcBef>
                <a:spcPts val="12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akers allow you to hear recorded music or speech from your comput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F31266D-CEB1-431D-B1BE-0F461B8EC1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Output Devices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ice synthesizers allow people with disabilities to “speak” through a computer.</a:t>
            </a:r>
            <a:endParaRPr b="0" lang="en-US" sz="2800" spc="-1" strike="noStrike">
              <a:solidFill>
                <a:srgbClr val="003366"/>
              </a:solidFill>
              <a:latin typeface="Arial"/>
            </a:endParaRPr>
          </a:p>
          <a:p>
            <a:pPr marL="343080" indent="-343080">
              <a:spcBef>
                <a:spcPts val="1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controlled mechanical devices are robotic controls, and their movements are a form of computer outpu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50C1D70-E0C6-4CD9-96A4-210BC72A7BB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orage Devices</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want to keep a permanent copy of data, you must store it on some type of storage medium.</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orage media are permanent, such as hard disk drives, or removable, such as floppy disks and CDs.</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torage devices are categorized by the method they use to store data, including magnetic and optical storage devices.</a:t>
            </a:r>
            <a:endParaRPr b="0" lang="en-US" sz="2600" spc="-1" strike="noStrike">
              <a:solidFill>
                <a:srgbClr val="003366"/>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9BD4680-0758-4414-99EC-A68242B89F4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oppy Diskettes</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loppy disks are small, portable magnetic disks that hold a limited amount of data.</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Numbered tracks on the disk are used to store the data.</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ach track on the disk is labeled and the location is kept in a special log called a file allocation table (FAT).</a:t>
            </a:r>
            <a:endParaRPr b="0" lang="en-US" sz="2600" spc="-1" strike="noStrike">
              <a:solidFill>
                <a:srgbClr val="003366"/>
              </a:solidFill>
              <a:latin typeface="Arial"/>
            </a:endParaRPr>
          </a:p>
          <a:p>
            <a:pPr marL="339480" indent="-3394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any newer computers have replaced floppy disk drives with CD/DVD drive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A29B00B-4548-443E-A3D4-83C2B5EFDE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rd Disk Drive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s are large-capacity and fast-access storage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s are usually built into the computer’s case and are not port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rly computers had a storage capacity of about 20MB, but now hard drives of 60GB or more are comm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D3FA94-83D2-4720-9EA4-2B8DAE9F5B0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 Hard Disk Drive</a:t>
            </a:r>
            <a:endParaRPr b="1" lang="en-US" sz="3600" spc="-1" strike="noStrike">
              <a:solidFill>
                <a:srgbClr val="006666"/>
              </a:solidFill>
              <a:latin typeface="Arial"/>
            </a:endParaRPr>
          </a:p>
        </p:txBody>
      </p:sp>
      <p:pic>
        <p:nvPicPr>
          <p:cNvPr id="183" name="" descr=""/>
          <p:cNvPicPr/>
          <p:nvPr/>
        </p:nvPicPr>
        <p:blipFill>
          <a:blip r:embed="rId1"/>
          <a:srcRect l="17817" t="13750" r="13737" b="8747"/>
          <a:stretch/>
        </p:blipFill>
        <p:spPr>
          <a:xfrm>
            <a:off x="2286000" y="2479680"/>
            <a:ext cx="4724280" cy="354312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3C359112-984E-4A0A-A429-6D4C630AC5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ypes of Drives</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Zip and Jaz drives:</a:t>
            </a:r>
            <a:r>
              <a:rPr b="0" lang="en-US" sz="2800" spc="-1" strike="noStrike">
                <a:solidFill>
                  <a:srgbClr val="003366"/>
                </a:solidFill>
                <a:latin typeface="Arial"/>
              </a:rPr>
              <a:t> Auxiliary storage devices that can hold large quantities of data and can be port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gnetic tape drives:</a:t>
            </a:r>
            <a:r>
              <a:rPr b="0" lang="en-US" sz="2800" spc="-1" strike="noStrike">
                <a:solidFill>
                  <a:srgbClr val="003366"/>
                </a:solidFill>
                <a:latin typeface="Arial"/>
              </a:rPr>
              <a:t> Used for making system backups and storing large quantities of da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7623D43-B7EA-492D-8903-39D232D8A2C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erican Standard Code for Information Interchange (ASCI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y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D-ROM</a:t>
            </a: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 processing unit (CP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V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ecution cycle     (E-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rd disk dr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44B6A39C-BB0B-4004-9F44-CB7E520BAE4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cal Storage Devices</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cal storage devices use laser technology to read and write data on silver platters:</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D-ROMs (Compact Disk Read-Only Memory) can store up to 680MB and are used to store data, music, and graphic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M disks (Write Once, Read Many) permanently store large amounts of data.</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20DEB10-852B-43B6-8D56-055C642878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cal Storage Devices (cont.)</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D-R drives allow you to record your own CD-ROM disks. After information is written to a CD-ROM disk, it cannot be chang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VD (Digital Versatile Disk) media are used to store digital video. Many computers now have a CD/DVD drive that can read both types of optical media.</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59898E-0AE3-4024-8592-8BBABBB822E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twork Drives</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twork drive is located on another computer or a server where space is provided for storage of data from many computer termin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 drives may appear as the Q:\ or R:\ drive on a terminal to distinguish it from the drives that are part of the computer termina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9CEE3B1-5C44-4F3C-9276-978C8B63C82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rtual or Internet Storage</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rtual storage on the Internet is not a physical part of the computer, but it can be used to store data that can be accessed from the 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lso ways to map virtual addresses to real addresses to create more storage on a physical computer hard drive than actually exis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E3470FA-9778-406B-847D-688F55ED0F0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ash Memory and Memory Cards</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ash memory is rewritable and nonvolatile (it retains data even when power is turned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lash memory sticks or cards are used in portable devices such as digital cameras, cell phones, and hand-held compu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ory cards the size of credit cards can be used to store monetary value or can serve in place of disk storage in a small compute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EBC06BE-3DEF-41A8-833B-253C2B46CB8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bout all computers perform the same general options: input, process, output, and stor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output, and processing devices grouped together represent a computer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is the center of all processing.</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F18286E-7115-425C-8AE4-D97D05ACBEA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contains the CPU, memory, and basic controllers for th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also contains peripheral ports and expansion slo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ral processing unit is the brains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C2B3926-E0CF-48A9-B558-3BDEB728722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is given instructions through computer progra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PU has two main sections—the arithmetic logic unit and the control uni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calculations and comparisons take place in the ALU.</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rol unit coordinates the CPU activit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034D748-26C6-42B3-92FB-B19F7BF0182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SCII code is a standard code used to represent the alphabet, numbers, symbols, and punctuation mark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troller is used to control the transfer of data between the computer and peripheral device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therboard contains different types of memo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DBFD99D-EC31-4BC3-A113-99C04165DD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access memory (RAM) is volatile and is used to store instructions, data, and information temporari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chine cycle is made up of the instruction cycle and the execution 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only memory (ROM) is nonvolatile and is used to store permanent instructions needed for computer oper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ECB4D7E-3241-4CCF-AFE6-4610D0648A2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act print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ruction cycle       (I-cyc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in memor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ther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u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 dr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impact printer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C103C2C-7B41-4B8B-89CA-D1E5291BFB1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put devices enable you to input data and commands into the computer. The most common input devices are the keyboard and mouse.</a:t>
            </a:r>
            <a:endParaRPr b="0" lang="en-US" sz="2600" spc="-1" strike="noStrike">
              <a:solidFill>
                <a:srgbClr val="003366"/>
              </a:solidFill>
              <a:latin typeface="Arial"/>
            </a:endParaRPr>
          </a:p>
          <a:p>
            <a:pPr marL="332640" indent="-33264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mouse is a pointing device used to input data that has evolved from a mechanical device connected to the computer by a cable to more flexible devices such as a wireless mouse, a thumb mouse, or the mouse panel on a notebook computer.</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00A4C87-4C95-46F5-BC7E-BF116F76223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ther types of input devices include joysticks, trackballs, graphic tablets, touch display screens, voice recognition devices, scanners, digital cameras, electronic sensors, and remote control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utput devices allow you to see and use the results of processing data. The most common output devices are the monitor and printer.</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2F91C19-458E-4A34-8AC4-D94E9FB141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s can be monochromatic or full color and are available in a range of sizes with different screen resol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ers are used to produce a paper or hard copy of the processed res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ers are classified as either impact (dot matrix) or nonimpact (laser and inkj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EB39CE7-64A6-4424-9E83-F82493854C8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Other types of output devices include plotters, projectors, robotic controls, and voice synthesizers.</a:t>
            </a:r>
            <a:endParaRPr b="0" lang="en-US" sz="2700" spc="-1" strike="noStrike">
              <a:solidFill>
                <a:srgbClr val="003366"/>
              </a:solidFill>
              <a:latin typeface="Arial"/>
            </a:endParaRPr>
          </a:p>
          <a:p>
            <a:pPr marL="343080" indent="-343080">
              <a:lnSpc>
                <a:spcPct val="95000"/>
              </a:lnSpc>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maintain a permanent copy of data, you must store it on some type of storage medium. These may include floppy diskettes, hard disk drives, CDs or DVDs, magnetic tape cartridges, network drives, virtual storage, and flash memory card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4DB10C-4FB2-4D3F-AB81-6E95E3CE389D}" type="slidenum">
              <a:t>53</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tical storage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dev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ot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int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access memory (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only memory (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cann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stem clock</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A998528-5DA9-487F-955B-0CB45BD26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Components and IPOS</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uter system requires many components to do its job:</a:t>
            </a:r>
            <a:endParaRPr b="0" lang="en-US" sz="28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put:</a:t>
            </a:r>
            <a:r>
              <a:rPr b="0" lang="en-US" sz="2400" spc="-1" strike="noStrike">
                <a:solidFill>
                  <a:srgbClr val="003366"/>
                </a:solidFill>
                <a:latin typeface="Arial"/>
              </a:rPr>
              <a:t> Some device or method to input data</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a:t>
            </a:r>
            <a:r>
              <a:rPr b="0" lang="en-US" sz="2400" spc="-1" strike="noStrike">
                <a:solidFill>
                  <a:srgbClr val="003366"/>
                </a:solidFill>
                <a:latin typeface="Arial"/>
              </a:rPr>
              <a:t> Circuits and programs in order to process the data</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utput: </a:t>
            </a:r>
            <a:r>
              <a:rPr b="0" lang="en-US" sz="2400" spc="-1" strike="noStrike">
                <a:solidFill>
                  <a:srgbClr val="003366"/>
                </a:solidFill>
                <a:latin typeface="Arial"/>
              </a:rPr>
              <a:t>Some type of output device to give the result of its processing to the user</a:t>
            </a:r>
            <a:endParaRPr b="0" lang="en-US" sz="2400" spc="-1" strike="noStrike">
              <a:solidFill>
                <a:srgbClr val="003366"/>
              </a:solidFill>
              <a:latin typeface="Arial"/>
            </a:endParaRPr>
          </a:p>
          <a:p>
            <a:pPr marL="343080" indent="-343080">
              <a:lnSpc>
                <a:spcPct val="95000"/>
              </a:lnSpc>
              <a:spcBef>
                <a:spcPts val="601"/>
              </a:spcBef>
              <a:spcAft>
                <a:spcPts val="326"/>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orage:</a:t>
            </a:r>
            <a:r>
              <a:rPr b="0" lang="en-US" sz="2400" spc="-1" strike="noStrike">
                <a:solidFill>
                  <a:srgbClr val="003366"/>
                </a:solidFill>
                <a:latin typeface="Arial"/>
              </a:rPr>
              <a:t> Some mechanism for storing data</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B3A01F7-CE39-4AC9-8BF7-97D0EB22E4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stem Components</a:t>
            </a:r>
            <a:endParaRPr b="1" lang="en-US" sz="3600" spc="-1" strike="noStrike">
              <a:solidFill>
                <a:srgbClr val="006666"/>
              </a:solidFill>
              <a:latin typeface="Arial"/>
            </a:endParaRPr>
          </a:p>
        </p:txBody>
      </p:sp>
      <p:sp>
        <p:nvSpPr>
          <p:cNvPr id="113" name=""/>
          <p:cNvSpPr/>
          <p:nvPr/>
        </p:nvSpPr>
        <p:spPr>
          <a:xfrm>
            <a:off x="2666880" y="2362320"/>
            <a:ext cx="2133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14" name="" descr=""/>
          <p:cNvPicPr/>
          <p:nvPr/>
        </p:nvPicPr>
        <p:blipFill>
          <a:blip r:embed="rId1"/>
          <a:stretch/>
        </p:blipFill>
        <p:spPr>
          <a:xfrm>
            <a:off x="2209680" y="2438280"/>
            <a:ext cx="4343400" cy="379908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7124CA7E-EE91-4C01-BFD8-EAA177D646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therboard</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ircuit board inside the microcomputer’s plastic case. It contains components including:</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central processing unit or CPU</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asic controller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ansion ports and slot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emory</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FDA53FA-83FD-44AB-9E47-1A4B4C7C5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10-21T17:28:01Z</dcterms:modified>
  <cp:revision>50</cp:revision>
  <dc:subject/>
  <dc:title>kjjhghgff</dc:title>
</cp:coreProperties>
</file>